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294813"/>
  <p:custShowLst>
    <p:custShow name="Speech" id="0">
      <p:sldLst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14560" y="693360"/>
            <a:ext cx="46288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3"/>
          </p:nvPr>
        </p:nvSpPr>
        <p:spPr>
          <a:xfrm>
            <a:off x="-36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4"/>
          </p:nvPr>
        </p:nvSpPr>
        <p:spPr>
          <a:xfrm>
            <a:off x="388584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BAD7-78B2-4F4E-987C-D858EED0F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CF14-310E-48F4-A115-18D2A542B5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08BF-63D3-4C6B-B040-AF23A75E0D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1911-0D9A-432D-A3A2-AD96572884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DE36-57C7-4100-9A62-926C137F4D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A6A8-0D38-47F5-8FF3-04523C4454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7D8A-459C-4B52-84B8-4A8ABF2E2A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9EE7-941B-4962-9244-DB5D13E48B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B3B1-FC83-4560-BB56-F07DCCCB66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151C-2BBC-4FDF-8B5E-71C047E2CF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EC2E-3E33-42C4-AA5C-D68296F6C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6081-4735-4191-910C-821B67859F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8FD5-5E2A-4918-B47F-C816405EFF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908E-1DC7-44EF-9B24-B71AAF4352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0641-7C4E-4664-A6F5-67646FE5FB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0308-DEB9-4758-9586-6F5D4B6DA5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1B9A-B51E-47B8-811C-9C04575F3D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A967-1E7B-496D-94CB-E07CF5FAF2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115A-9917-4D8F-A066-7F71361FBB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AD8F-862C-4A4A-A03C-1E3DF654A5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279F-6441-45D4-8319-316CF72B22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ADE2-735D-4DA6-8E5B-43EF089B6D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A557-AF96-4C96-BAFC-1948D00FDC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B94-B691-4021-BFDD-08ECD9B2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4BE-A096-4994-BFFB-52860AD4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8C4-0CE9-420A-BB76-D014F654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4C4-2CC9-4E5E-830F-D24C6046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52D1-F2C0-4775-A03A-4A7C6B1E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529-688F-4DB0-AF31-01387DE5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5F99-BDC3-4830-9612-6D38762C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86BE-D980-4518-B307-FE72B73F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B8C3-EF49-4A3A-85DA-95387966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196C-2BDB-453D-891B-7988C409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EE66-00BE-4D9D-A01B-A3254551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09E-B979-474E-9ABF-4B314583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4AEC-478A-4ABE-8997-9180A870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0FA0-0795-42B8-B6A1-E6FC1548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1054-2C4B-47DA-AF48-9E19A3E4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B7F4-B11A-4104-9B08-2DD17A54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0D41-AEFB-4E54-B5D5-8E8C05AB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193BA-A135-4932-8EE7-0E27B33D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4489-9AF1-4C4C-9B9E-6FAC207D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5DFD-980E-438C-A677-EE561EA0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57794-903D-4A65-9A72-F7B6BC10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F30D-BA09-4E6F-BC61-5BDEC8F5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E13-7971-4BFD-8033-68A3D5CF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389BD-7F7A-4A36-90FD-797CCBEF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4EB51-F79D-49B6-A819-3E783B9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6EB38-B102-4FE7-BEC9-6E85D9FC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1286-E97C-4CF1-B2CA-F140543B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7C1C6-3443-4D32-AD0C-A58F5556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90B93-813F-4685-BB27-8E0F59B8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5980-755C-4547-A39D-A430B306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B1DB-7543-4C1D-A54B-08934805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ADA5-5AB6-4980-A7E8-6D9A80EE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279EA-8D31-4E0C-9036-B043CB1E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5AE-4D80-4329-8611-09CE9499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A23D4-E56A-4EED-A681-674FBFD1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3A37F-BAA3-4DFE-93B9-7B50FFA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4A932-7F90-472E-A6A8-85B8EEA3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326B-AAEC-492A-B1D1-200E11F3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283C-A330-4A3D-9DFF-85E00705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8697-DB21-4A63-B9A2-C783F77A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C6AE7-707A-4BCB-B437-797FF8A4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E3C03-9849-47C3-A2B6-A4BD6FE6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AF27-EC9C-4B4F-8377-4673722E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D397-2D9A-4205-BB46-287640FC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A9D-E8D2-4364-8C4D-33FE67E4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BFB08-53D4-4B34-BDF7-4C120A25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BEA83-3D97-492F-A261-F9B0E61A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2B117-3EC1-4247-AA98-9A8FB7D0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0679-68E4-4D0B-A707-ACA2A506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11157-A590-42DA-8E39-B7E9BA4F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E8E51-1F5F-4932-8667-B05256B3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C4AAF-FEA6-4410-9A5B-A0099F37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FAE2-FC76-4586-8202-C20EB195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55F4F-D9D5-4B27-AB10-720B9A23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90291-2E6B-40AB-ABD3-FD1BC019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FBF-6251-4DCD-8291-2FBA2296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AB40-78C2-480D-B8CC-405EC711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1D52E-0A0C-4B1B-8EB1-5419F71A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DA589-1B18-430C-9291-0EE381D7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1788D-0F7C-4A0E-9ECC-A2A95C40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E0E7A-CDFF-4227-A55F-021FBE2E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789E-93A2-4366-B0F3-CCD45542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C4AA4-5CC8-46B3-A1EB-294843B7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A797A-BE01-4808-836D-5893622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0DEA-A482-4A29-B731-D520F7A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9E5EE-F5FE-4D46-83FA-C336AF0C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5E2-C7C5-43CE-A68F-5AEEDABD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6E28C-5BB5-4798-9243-CBE732BB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5CD2C-C4F0-4DCB-A35B-35F7EE2A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572B1-B743-418F-B59D-41B7B208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B71C3-54F8-43D3-857B-20D8B63C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87CCB-4409-49CE-9F3B-383DEE0F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4A4A3-5CE9-41CF-A201-F594080A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BF67C-D187-4BA4-8B33-F38EDE01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CB519-8F1B-4F45-B4E8-38A9E9C1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91220-2643-4BC8-958D-6612D788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9DF9F-D4F5-4217-BC73-50F31E42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017-2C79-4CC5-85ED-706A56D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CC9B4-11B6-43BE-98F1-CACC8043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B4FF0-6969-4856-9A53-A35EE85E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6420B-AEC7-4DE7-86E4-0BA1BA08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5C91A-E873-48F8-8CE5-0ACBC6E6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5FFBD-C67D-408F-9344-B79585DB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6BD-FE19-4AC7-BB27-C686B4A9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54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847A-F813-40EF-ACD6-8B0FE2CB8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e5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7FFC-0724-4FB8-9405-4D528975EE77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E261-B44E-40C2-A684-35920F3D2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B62B-D220-4B85-B53B-5D5AB0E2CB2D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2655-9C2B-4A9A-9BB4-96C9A21AC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7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7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7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7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7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C51E-B529-4926-BA9E-5EF70E545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F50A-E1FB-4CC6-B038-9BD5CEDEE0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politicalcartoon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politicalcartoon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oliticalcartoons.com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Amending the Constitution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Why Change?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Proposal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Proposal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533520" y="1447920"/>
            <a:ext cx="3429000" cy="38098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2/3 vote in both the House and the Senate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most common method of proposing an amendment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Proposal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5029200" y="1371600"/>
            <a:ext cx="3733920" cy="5181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2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national constitutional convention called by Congress at the request of 2/3 of the state legislatur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This method has never been used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533520" y="1447920"/>
            <a:ext cx="3429000" cy="38098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2/3 vote in both the House and the Senate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most common method of proposing an amendment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114800" y="297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Ratification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Ratification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3520" y="1447920"/>
            <a:ext cx="3429000" cy="3809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legislatures in ¾ of the stat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in all but one case, this is how amendments have been ratified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Ratification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5029200" y="1371600"/>
            <a:ext cx="3733920" cy="5181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2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fied through conventions in ¾ of the states. 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Only been used once to ratify the 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33520" y="1447920"/>
            <a:ext cx="3429000" cy="3809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legislatures in ¾ of the stat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in all but one case, this is how amendments have been ratified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114800" y="297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Amendment Process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457200" y="1143000"/>
            <a:ext cx="3733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ethods of Proposal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2" name="Text Box 35"/>
          <p:cNvSpPr/>
          <p:nvPr/>
        </p:nvSpPr>
        <p:spPr>
          <a:xfrm>
            <a:off x="1066680" y="1600200"/>
            <a:ext cx="2514600" cy="18288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2/3 vote in both the House and the Senate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3" name="Text Box 36"/>
          <p:cNvSpPr/>
          <p:nvPr/>
        </p:nvSpPr>
        <p:spPr>
          <a:xfrm>
            <a:off x="1828800" y="35812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4" name="Text Box 37"/>
          <p:cNvSpPr/>
          <p:nvPr/>
        </p:nvSpPr>
        <p:spPr>
          <a:xfrm>
            <a:off x="609480" y="4038480"/>
            <a:ext cx="3353040" cy="19814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2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national constitutional convention called by Congress at the request of 2/3 of the state legislatures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4724280" y="1143000"/>
            <a:ext cx="4038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ethods of Ratification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6" name="Text Box 42"/>
          <p:cNvSpPr/>
          <p:nvPr/>
        </p:nvSpPr>
        <p:spPr>
          <a:xfrm>
            <a:off x="5410080" y="1600200"/>
            <a:ext cx="2819520" cy="15238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legislature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of the states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7" name="Text Box 43"/>
          <p:cNvSpPr/>
          <p:nvPr/>
        </p:nvSpPr>
        <p:spPr>
          <a:xfrm>
            <a:off x="6248520" y="3352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8" name="Text Box 45"/>
          <p:cNvSpPr/>
          <p:nvPr/>
        </p:nvSpPr>
        <p:spPr>
          <a:xfrm>
            <a:off x="5410080" y="3886200"/>
            <a:ext cx="2743200" cy="19810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2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tified through convention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of the states. 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9" name="AutoShape 46"/>
          <p:cNvSpPr/>
          <p:nvPr/>
        </p:nvSpPr>
        <p:spPr>
          <a:xfrm>
            <a:off x="3657600" y="1981080"/>
            <a:ext cx="1714680" cy="495360"/>
          </a:xfrm>
          <a:custGeom>
            <a:avLst/>
            <a:gdLst>
              <a:gd name="textAreaLeft" fmla="*/ 267840 w 1714680"/>
              <a:gd name="textAreaRight" fmla="*/ 1500480 w 17146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0" name="AutoShape 48"/>
          <p:cNvSpPr/>
          <p:nvPr/>
        </p:nvSpPr>
        <p:spPr>
          <a:xfrm rot="18884400">
            <a:off x="3830040" y="3373560"/>
            <a:ext cx="1716120" cy="457200"/>
          </a:xfrm>
          <a:custGeom>
            <a:avLst/>
            <a:gdLst>
              <a:gd name="textAreaLeft" fmla="*/ 268200 w 1716120"/>
              <a:gd name="textAreaRight" fmla="*/ 1501920 w 1716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1" name="AutoShape 47"/>
          <p:cNvSpPr/>
          <p:nvPr/>
        </p:nvSpPr>
        <p:spPr>
          <a:xfrm rot="2294400">
            <a:off x="3528720" y="3431880"/>
            <a:ext cx="1973160" cy="453960"/>
          </a:xfrm>
          <a:custGeom>
            <a:avLst/>
            <a:gdLst>
              <a:gd name="textAreaLeft" fmla="*/ 308160 w 1973160"/>
              <a:gd name="textAreaRight" fmla="*/ 1726560 w 1973160"/>
              <a:gd name="textAreaTop" fmla="*/ 113400 h 453960"/>
              <a:gd name="textAreaBottom" fmla="*/ 340560 h 4539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2" name="AutoShape 49"/>
          <p:cNvSpPr/>
          <p:nvPr/>
        </p:nvSpPr>
        <p:spPr>
          <a:xfrm>
            <a:off x="3962520" y="4648320"/>
            <a:ext cx="1447560" cy="53316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ggested Amendment Top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14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g bu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non-natural born citizens to become P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ial language(s) of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of marri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er in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42920" y="1828440"/>
            <a:ext cx="3814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d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oral Col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limits on U.S. Senators &amp; Represent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medical care for all citiz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pen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he Equal Rights Amendment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Georgia"/>
              </a:rPr>
              <a:t>Proposed 1972</a:t>
            </a:r>
            <a:endParaRPr b="1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Equality of rights  under the law shall not be denied or abridged by the United States or  by any state on account of sex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789, the first Congress of the United States established the existence of specific individual rights by creating a Bill of Rights to be amended to the Constitution.  In each session of Congress, a number of constitutional amendments have been proposed, but few are passed to be ratified by the states (only 27 amendments total)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8"/>
          <p:cNvSpPr/>
          <p:nvPr/>
        </p:nvSpPr>
        <p:spPr>
          <a:xfrm>
            <a:off x="228600" y="1676520"/>
            <a:ext cx="2666880" cy="3429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0d00"/>
                </a:solidFill>
                <a:latin typeface="Verdana"/>
              </a:rPr>
              <a:t>School of Rock</a:t>
            </a:r>
            <a:r>
              <a:rPr b="1" lang="en-US" sz="4000" spc="-1" strike="noStrike">
                <a:solidFill>
                  <a:srgbClr val="ffffff"/>
                </a:solidFill>
                <a:latin typeface="Rockwell Extra Bold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367" name="Picture 5" descr="dylan1"/>
          <p:cNvPicPr/>
          <p:nvPr/>
        </p:nvPicPr>
        <p:blipFill>
          <a:blip r:embed="rId1"/>
          <a:stretch/>
        </p:blipFill>
        <p:spPr>
          <a:xfrm>
            <a:off x="3048120" y="22096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dylan2"/>
          <p:cNvPicPr/>
          <p:nvPr/>
        </p:nvPicPr>
        <p:blipFill>
          <a:blip r:embed="rId2"/>
          <a:stretch/>
        </p:blipFill>
        <p:spPr>
          <a:xfrm>
            <a:off x="304920" y="1752480"/>
            <a:ext cx="2482560" cy="3353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dylan4"/>
          <p:cNvPicPr/>
          <p:nvPr/>
        </p:nvPicPr>
        <p:blipFill>
          <a:blip r:embed="rId3"/>
          <a:stretch/>
        </p:blipFill>
        <p:spPr>
          <a:xfrm>
            <a:off x="6477120" y="1981080"/>
            <a:ext cx="2124000" cy="32004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9"/>
          <p:cNvSpPr/>
          <p:nvPr/>
        </p:nvSpPr>
        <p:spPr>
          <a:xfrm>
            <a:off x="6400800" y="1905120"/>
            <a:ext cx="2286000" cy="3352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Why not?</a:t>
            </a:r>
            <a:endParaRPr b="1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72, Congress passed the Equal Rights Amendment, but by 1982, it fell three states short of ratification.  ERA supporters have re-introduced the amendment in every term since 1982 without success.  Still the simple words embodied in the amendment are both powerful and controvers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e5ffff"/>
                </a:solidFill>
                <a:latin typeface="Georgia"/>
              </a:rPr>
              <a:t>The Equal Rights Amendment (ERA):</a:t>
            </a:r>
            <a:br>
              <a:rPr sz="3200"/>
            </a:br>
            <a:r>
              <a:rPr b="1" lang="en-US" sz="3600" spc="-1" strike="noStrike">
                <a:solidFill>
                  <a:srgbClr val="e5ffff"/>
                </a:solidFill>
                <a:latin typeface="Georgia"/>
              </a:rPr>
              <a:t>Questions for Discussion</a:t>
            </a:r>
            <a:br>
              <a:rPr sz="4000"/>
            </a:br>
            <a:endParaRPr b="1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90760" y="152352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99"/>
              </a:spcBef>
              <a:buClr>
                <a:srgbClr val="e5ffff"/>
              </a:buClr>
              <a:buSzPct val="6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rights are protected by the ER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480" indent="-438480">
              <a:lnSpc>
                <a:spcPct val="90000"/>
              </a:lnSpc>
              <a:spcBef>
                <a:spcPts val="799"/>
              </a:spcBef>
              <a:buClr>
                <a:srgbClr val="e5ffff"/>
              </a:buClr>
              <a:buSzPct val="6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y do you think the ERA has evoked such heated deb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480" indent="-438480">
              <a:lnSpc>
                <a:spcPct val="90000"/>
              </a:lnSpc>
              <a:spcBef>
                <a:spcPts val="799"/>
              </a:spcBef>
              <a:buClr>
                <a:srgbClr val="e5ffff"/>
              </a:buClr>
              <a:buSzPct val="6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rainstorm pros and cons of each s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480" indent="-438480">
              <a:lnSpc>
                <a:spcPct val="90000"/>
              </a:lnSpc>
              <a:spcBef>
                <a:spcPts val="799"/>
              </a:spcBef>
              <a:buClr>
                <a:srgbClr val="e5ffff"/>
              </a:buClr>
              <a:buSzPct val="6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 you think the ERA should be ratifi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3" descr="-ERA-dr"/>
          <p:cNvPicPr/>
          <p:nvPr/>
        </p:nvPicPr>
        <p:blipFill>
          <a:blip r:embed="rId1"/>
          <a:stretch/>
        </p:blipFill>
        <p:spPr>
          <a:xfrm>
            <a:off x="1066680" y="1447920"/>
            <a:ext cx="2514600" cy="2560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6" descr="+ERA-dr"/>
          <p:cNvPicPr/>
          <p:nvPr/>
        </p:nvPicPr>
        <p:blipFill>
          <a:blip r:embed="rId2"/>
          <a:stretch/>
        </p:blipFill>
        <p:spPr>
          <a:xfrm>
            <a:off x="609480" y="4191120"/>
            <a:ext cx="36147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0d00"/>
                </a:solidFill>
                <a:latin typeface="Comic Sans MS"/>
              </a:rPr>
              <a:t>Political Cartoon #1</a:t>
            </a:r>
            <a:br>
              <a:rPr sz="3600"/>
            </a:br>
            <a:r>
              <a:rPr b="1" lang="en-US" sz="3200" spc="-1" strike="noStrike">
                <a:solidFill>
                  <a:srgbClr val="f0e500"/>
                </a:solidFill>
                <a:latin typeface="Comic Sans MS"/>
              </a:rPr>
              <a:t>Title:  Flag Burning Amendment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436" name="Picture 6" descr="scrap-dr"/>
          <p:cNvPicPr/>
          <p:nvPr/>
        </p:nvPicPr>
        <p:blipFill>
          <a:blip r:embed="rId1"/>
          <a:stretch/>
        </p:blipFill>
        <p:spPr>
          <a:xfrm>
            <a:off x="1447920" y="1523880"/>
            <a:ext cx="5943600" cy="42037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7"/>
          <p:cNvSpPr/>
          <p:nvPr/>
        </p:nvSpPr>
        <p:spPr>
          <a:xfrm>
            <a:off x="308160" y="5943600"/>
            <a:ext cx="759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Gary Markstein, Wisconsi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The Milwaukee Journal-Sentine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 , July 18, 2005 ,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Times New Roman"/>
                <a:ea typeface="Osaka"/>
                <a:hlinkClick r:id="rId2"/>
              </a:rPr>
              <a:t>http://www.politicalcartoons.com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0d00"/>
                </a:solidFill>
                <a:latin typeface="Comic Sans MS"/>
              </a:rPr>
              <a:t>Political Cartoon #2</a:t>
            </a:r>
            <a:br>
              <a:rPr sz="3600"/>
            </a:br>
            <a:r>
              <a:rPr b="1" lang="en-US" sz="3200" spc="-1" strike="noStrike">
                <a:solidFill>
                  <a:srgbClr val="f0e500"/>
                </a:solidFill>
                <a:latin typeface="Comic Sans MS"/>
              </a:rPr>
              <a:t>Title:  Flag Burning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00200" y="1676520"/>
            <a:ext cx="5715000" cy="4228920"/>
            <a:chOff x="1600200" y="1676520"/>
            <a:chExt cx="5715000" cy="4228920"/>
          </a:xfrm>
        </p:grpSpPr>
        <p:sp>
          <p:nvSpPr>
            <p:cNvPr id="440" name="Rectangle 5"/>
            <p:cNvSpPr/>
            <p:nvPr/>
          </p:nvSpPr>
          <p:spPr>
            <a:xfrm>
              <a:off x="1600200" y="1676520"/>
              <a:ext cx="5715000" cy="422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pic>
          <p:nvPicPr>
            <p:cNvPr id="441" name="Picture 6" descr="scrap-dr"/>
            <p:cNvPicPr/>
            <p:nvPr/>
          </p:nvPicPr>
          <p:blipFill>
            <a:blip r:embed="rId1"/>
            <a:stretch/>
          </p:blipFill>
          <p:spPr>
            <a:xfrm>
              <a:off x="1707840" y="1782000"/>
              <a:ext cx="5499360" cy="40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2" name="Text Box 8"/>
          <p:cNvSpPr/>
          <p:nvPr/>
        </p:nvSpPr>
        <p:spPr>
          <a:xfrm>
            <a:off x="1355760" y="601992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1434240" y="5943600"/>
            <a:ext cx="62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ve Breen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he San Diego Union-Tribu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July 25, 2005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Times New Roman"/>
                <a:hlinkClick r:id="rId2"/>
              </a:rPr>
              <a:t>http://www.politicalcartoons.com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0d00"/>
                </a:solidFill>
                <a:latin typeface="Comic Sans MS"/>
              </a:rPr>
              <a:t>Political Cartoon #3</a:t>
            </a:r>
            <a:br>
              <a:rPr sz="3600"/>
            </a:br>
            <a:r>
              <a:rPr b="1" lang="en-US" sz="3200" spc="-1" strike="noStrike">
                <a:solidFill>
                  <a:srgbClr val="f0e500"/>
                </a:solidFill>
                <a:latin typeface="Comic Sans MS"/>
              </a:rPr>
              <a:t>Title:  Gay Marriage Amendment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355760" y="601992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1363680" y="5791320"/>
            <a:ext cx="55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Osaka"/>
              </a:rPr>
              <a:t>Mike La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Osaka"/>
              </a:rPr>
              <a:t>, Cagle Cartoons. Feb. 26, 2004 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Times New Roman"/>
                <a:ea typeface="Osaka"/>
                <a:hlinkClick r:id="rId1"/>
              </a:rPr>
              <a:t>http://www.politicalcartoons.com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447" name="Picture 8" descr="scrap-dr"/>
          <p:cNvPicPr/>
          <p:nvPr/>
        </p:nvPicPr>
        <p:blipFill>
          <a:blip r:embed="rId2"/>
          <a:stretch/>
        </p:blipFill>
        <p:spPr>
          <a:xfrm>
            <a:off x="2057400" y="1523880"/>
            <a:ext cx="48769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66"/>
                </a:solidFill>
                <a:latin typeface="Georgia"/>
              </a:rPr>
              <a:t>The Times They Are A-Changin’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Georgia"/>
              </a:rPr>
              <a:t>by Bob Dylan (1964)</a:t>
            </a:r>
            <a:r>
              <a:rPr b="0" i="1" lang="en-US" sz="3600" spc="-1" strike="noStrike">
                <a:solidFill>
                  <a:srgbClr val="ffff66"/>
                </a:solidFill>
                <a:latin typeface="Georgi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625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Come gather ‘round people 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Wherever you roam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And admit that the water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Around you have grown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And accept it that soon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You’ll be drenched to the bon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38102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If your time to you is worth savin’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Then you better start swimmin’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Or you’ll sink like a ston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For the times they are a-changin’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2819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Verse 2</a:t>
            </a:r>
            <a:endParaRPr b="1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8769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Come writers &amp; critics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ho prophesize with your pe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keep your eyes wide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 chance won’t come agai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don’t speak too soo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wheel’s still in spi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57440" y="1143000"/>
            <a:ext cx="34290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there’s no tellin’ who that it’s nam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loser now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ill be later to wi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times they are a-chan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518148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Come senators, congressme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Please heed the cal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Don’t stand in the doorway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Don’t block up the hal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he that gets hur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ill be he who has stalle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re’s a battle outside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3760" y="1219320"/>
            <a:ext cx="38098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it is ra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It’ll soon shake your windows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rattle your walls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times they are a-chan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title"/>
          </p:nvPr>
        </p:nvSpPr>
        <p:spPr>
          <a:xfrm>
            <a:off x="533160" y="304560"/>
            <a:ext cx="2514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Verse 3</a:t>
            </a:r>
            <a:endParaRPr b="1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541008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Come mothers &amp; fathers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roughout the lan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don’t criticize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hat you can’t understan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Your sons and your daughters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re beyond your     comman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3760" y="990720"/>
            <a:ext cx="38098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Your old road is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Rapidly a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Please get out of  the new one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If you can’t lend a han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times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y are a-chan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title"/>
          </p:nvPr>
        </p:nvSpPr>
        <p:spPr>
          <a:xfrm>
            <a:off x="533160" y="304560"/>
            <a:ext cx="2514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Verse 4</a:t>
            </a:r>
            <a:endParaRPr b="1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54100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 line it is draw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 curse it is cas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 slow one now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ill later be fas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s the present now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ill later be pas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 order is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Rapidly fad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495680" y="914400"/>
            <a:ext cx="381024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the first one now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ill later be las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times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y are a-chan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title"/>
          </p:nvPr>
        </p:nvSpPr>
        <p:spPr>
          <a:xfrm>
            <a:off x="533160" y="304560"/>
            <a:ext cx="2514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Verse 5</a:t>
            </a:r>
            <a:endParaRPr b="1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s for Discussion</a:t>
            </a:r>
            <a:endParaRPr b="0" lang="en-US" sz="4000" spc="-1" strike="noStrike">
              <a:solidFill>
                <a:srgbClr val="e5ffff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do you think the song is about, i.e. “what’s going on?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each verse, Dylan is challenging a certain group to change.  Analyze each verse of the song and identify who or what needs to chang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do you think is the overall message of the song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forces might make it necessary to change the Constitutio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Verdana"/>
              </a:rPr>
              <a:t>The Constitution and the Amendment Process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9:50:35Z</dcterms:created>
  <dc:creator>inst</dc:creator>
  <dc:description/>
  <dc:language>en-US</dc:language>
  <cp:lastModifiedBy>hberndt</cp:lastModifiedBy>
  <dcterms:modified xsi:type="dcterms:W3CDTF">2010-02-03T13:18:16Z</dcterms:modified>
  <cp:revision>114</cp:revision>
  <dc:subject/>
  <dc:title>The Bill of Rights</dc:title>
</cp:coreProperties>
</file>